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064-96D7-497D-9E42-5DAE0145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2A7-2B81-4F8E-859A-65574484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B32-2405-44DB-8302-600FEBBA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839-791F-4CDF-AAF1-DB8B8843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CC0-1732-451E-BAEA-14CD3EAC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1EB-7F8D-48E0-A540-127A264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A63-F0E1-4FAF-87BF-1FB55CD0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54C-05E1-4310-971B-6B733CB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018-837C-450B-A4A4-847AC1A6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22C-5245-4CCB-A779-F6242EB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D96-2CCA-4A61-BE24-BF00DBF7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A16-1265-4860-AFE0-2C52C1E6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1CE6-DEB8-4A82-A2F0-1454AD36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50846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5229360"/>
            <a:ext cx="1018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437000"/>
            <a:ext cx="1018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539424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20920" y="596412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22360" y="5859360"/>
            <a:ext cx="1018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3440" y="5446800"/>
            <a:ext cx="10152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46530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8240" y="48783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69960" y="39988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50846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4960" y="420516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42210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379260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9240" y="436248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56732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25680" y="534204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400560"/>
            <a:ext cx="3311640" cy="295272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78936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537372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7973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45813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46530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496872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530064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32108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2720" y="5278320"/>
            <a:ext cx="1018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26000" y="58482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27800" y="574344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5516640"/>
            <a:ext cx="1018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50864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3680" y="47624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7162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45080" y="496872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80400" y="408924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5080" y="410544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78720" y="36766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81800" y="44514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31120" y="522612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284640"/>
            <a:ext cx="3311280" cy="295272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9440" y="367344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9440" y="453708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44370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47973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0766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7640" y="364500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573408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54450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508464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46530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54450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1989000"/>
            <a:ext cx="336600" cy="360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1989000"/>
            <a:ext cx="36036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19890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60720" y="403560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9800" y="72396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2019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2163600"/>
            <a:ext cx="1018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371600"/>
            <a:ext cx="1018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32884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94000" y="2898720"/>
            <a:ext cx="997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95440" y="279396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6520" y="2381400"/>
            <a:ext cx="10152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7440" y="15876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41320" y="18129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43040" y="9334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3080" y="2019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48040" y="113976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3080" y="11556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46360" y="72720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92320" y="129708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9800" y="150192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8760" y="227664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34800"/>
            <a:ext cx="3311640" cy="295308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9440" y="230832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4720" y="1731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9440" y="1515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723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7080" y="158760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3527280" cy="3025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72396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019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3800" y="216360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137160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83080" y="2328840"/>
            <a:ext cx="1018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86360" y="289872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279396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2381400"/>
            <a:ext cx="1018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50160" y="15876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34040" y="18129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35760" y="9334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5440" y="2019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40760" y="113976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11556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39080" y="72720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4680" y="129708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2160" y="150192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91480" y="227664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61080" y="334800"/>
            <a:ext cx="3311280" cy="295308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158760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260280"/>
            <a:ext cx="3527640" cy="3025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2160" y="230832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7440" y="1731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2160" y="1515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723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3646440"/>
            <a:ext cx="3311640" cy="295272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56196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50436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48276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40356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3645000"/>
            <a:ext cx="3527280" cy="3025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533088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547524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683240"/>
            <a:ext cx="10152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94000" y="56404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97280" y="621036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99080" y="610560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9800" y="569268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61080" y="489888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4960" y="5124600"/>
            <a:ext cx="9972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46680" y="424512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533088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1320" y="44514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4467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0000" y="40384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5600" y="46083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3080" y="48132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0" y="558792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4898880"/>
            <a:ext cx="997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1:38:01Z</dcterms:created>
  <dc:creator>helen</dc:creator>
  <dc:description/>
  <dc:language>en-US</dc:language>
  <cp:lastModifiedBy>Helen Peters</cp:lastModifiedBy>
  <dcterms:modified xsi:type="dcterms:W3CDTF">2005-11-24T12:53:16Z</dcterms:modified>
  <cp:revision>3</cp:revision>
  <dc:subject/>
  <dc:title>Slide 1</dc:title>
</cp:coreProperties>
</file>