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98A-FDE5-4CB3-8DE4-BE4DC62C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D09-A250-46A8-B23F-06082280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8C1-39E1-48FB-BAE9-BBD4D87B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DC0-0D2F-48CE-B21C-3DC4FA62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A40-7703-4D96-892E-FFF23C18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4EA-7641-40B8-8F8B-BA5E6535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C2D-E3FE-4484-9C5F-7199225F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CA2-C248-4026-895E-6AC52EA6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BBF-77BA-4933-A803-A358606F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56E-E924-4CE3-BE0F-D63EC1B8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1FF-4AC3-4233-AE8F-F9015196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634-C58D-49D1-B14A-94A3D61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7FB8-811E-4CC7-9DCF-D006349C1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50846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5229360"/>
            <a:ext cx="1018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437000"/>
            <a:ext cx="1018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539424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20920" y="596412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22360" y="5859360"/>
            <a:ext cx="1018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3440" y="5446800"/>
            <a:ext cx="10152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46530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8240" y="487836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69960" y="39988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50846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4960" y="420516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42210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379260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9240" y="436248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56732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25680" y="534204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400560"/>
            <a:ext cx="3311640" cy="2952720"/>
          </a:xfrm>
          <a:custGeom>
            <a:avLst/>
            <a:gdLst/>
            <a:ahLst/>
            <a:rect l="l" t="t" r="r" b="b"/>
            <a:pathLst>
              <a:path w="2994" h="2592">
                <a:moveTo>
                  <a:pt x="23" y="1632"/>
                </a:moveTo>
                <a:cubicBezTo>
                  <a:pt x="46" y="1783"/>
                  <a:pt x="76" y="1806"/>
                  <a:pt x="204" y="1950"/>
                </a:cubicBezTo>
                <a:cubicBezTo>
                  <a:pt x="332" y="2094"/>
                  <a:pt x="567" y="2396"/>
                  <a:pt x="794" y="2494"/>
                </a:cubicBezTo>
                <a:cubicBezTo>
                  <a:pt x="1021" y="2592"/>
                  <a:pt x="1278" y="2584"/>
                  <a:pt x="1565" y="2539"/>
                </a:cubicBezTo>
                <a:cubicBezTo>
                  <a:pt x="1852" y="2494"/>
                  <a:pt x="2290" y="2335"/>
                  <a:pt x="2517" y="2222"/>
                </a:cubicBezTo>
                <a:cubicBezTo>
                  <a:pt x="2744" y="2109"/>
                  <a:pt x="2858" y="2010"/>
                  <a:pt x="2926" y="1859"/>
                </a:cubicBezTo>
                <a:cubicBezTo>
                  <a:pt x="2994" y="1708"/>
                  <a:pt x="2941" y="1481"/>
                  <a:pt x="2926" y="1315"/>
                </a:cubicBezTo>
                <a:cubicBezTo>
                  <a:pt x="2911" y="1149"/>
                  <a:pt x="2933" y="1005"/>
                  <a:pt x="2835" y="861"/>
                </a:cubicBezTo>
                <a:cubicBezTo>
                  <a:pt x="2737" y="717"/>
                  <a:pt x="2480" y="589"/>
                  <a:pt x="2336" y="453"/>
                </a:cubicBezTo>
                <a:cubicBezTo>
                  <a:pt x="2192" y="317"/>
                  <a:pt x="2222" y="90"/>
                  <a:pt x="1973" y="45"/>
                </a:cubicBezTo>
                <a:cubicBezTo>
                  <a:pt x="1724" y="0"/>
                  <a:pt x="1141" y="136"/>
                  <a:pt x="839" y="181"/>
                </a:cubicBezTo>
                <a:cubicBezTo>
                  <a:pt x="537" y="226"/>
                  <a:pt x="288" y="173"/>
                  <a:pt x="159" y="317"/>
                </a:cubicBezTo>
                <a:cubicBezTo>
                  <a:pt x="30" y="461"/>
                  <a:pt x="91" y="824"/>
                  <a:pt x="68" y="1043"/>
                </a:cubicBezTo>
                <a:cubicBezTo>
                  <a:pt x="45" y="1262"/>
                  <a:pt x="0" y="1481"/>
                  <a:pt x="23" y="16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789360"/>
            <a:ext cx="36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537372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47973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45813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7893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46530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496872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2000" y="530064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432108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2720" y="5278320"/>
            <a:ext cx="1018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26000" y="58482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27800" y="574344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5516640"/>
            <a:ext cx="1018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50864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3680" y="47624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37162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45080" y="496872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80400" y="408924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5080" y="410544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78720" y="36766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81800" y="44514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31120" y="522612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284640"/>
            <a:ext cx="3311280" cy="2952720"/>
          </a:xfrm>
          <a:custGeom>
            <a:avLst/>
            <a:gdLst/>
            <a:ahLst/>
            <a:rect l="l" t="t" r="r" b="b"/>
            <a:pathLst>
              <a:path w="2994" h="2592">
                <a:moveTo>
                  <a:pt x="23" y="1632"/>
                </a:moveTo>
                <a:cubicBezTo>
                  <a:pt x="46" y="1783"/>
                  <a:pt x="76" y="1806"/>
                  <a:pt x="204" y="1950"/>
                </a:cubicBezTo>
                <a:cubicBezTo>
                  <a:pt x="332" y="2094"/>
                  <a:pt x="567" y="2396"/>
                  <a:pt x="794" y="2494"/>
                </a:cubicBezTo>
                <a:cubicBezTo>
                  <a:pt x="1021" y="2592"/>
                  <a:pt x="1278" y="2584"/>
                  <a:pt x="1565" y="2539"/>
                </a:cubicBezTo>
                <a:cubicBezTo>
                  <a:pt x="1852" y="2494"/>
                  <a:pt x="2290" y="2335"/>
                  <a:pt x="2517" y="2222"/>
                </a:cubicBezTo>
                <a:cubicBezTo>
                  <a:pt x="2744" y="2109"/>
                  <a:pt x="2858" y="2010"/>
                  <a:pt x="2926" y="1859"/>
                </a:cubicBezTo>
                <a:cubicBezTo>
                  <a:pt x="2994" y="1708"/>
                  <a:pt x="2941" y="1481"/>
                  <a:pt x="2926" y="1315"/>
                </a:cubicBezTo>
                <a:cubicBezTo>
                  <a:pt x="2911" y="1149"/>
                  <a:pt x="2933" y="1005"/>
                  <a:pt x="2835" y="861"/>
                </a:cubicBezTo>
                <a:cubicBezTo>
                  <a:pt x="2737" y="717"/>
                  <a:pt x="2480" y="589"/>
                  <a:pt x="2336" y="453"/>
                </a:cubicBezTo>
                <a:cubicBezTo>
                  <a:pt x="2192" y="317"/>
                  <a:pt x="2222" y="90"/>
                  <a:pt x="1973" y="45"/>
                </a:cubicBezTo>
                <a:cubicBezTo>
                  <a:pt x="1724" y="0"/>
                  <a:pt x="1141" y="136"/>
                  <a:pt x="839" y="181"/>
                </a:cubicBezTo>
                <a:cubicBezTo>
                  <a:pt x="537" y="226"/>
                  <a:pt x="288" y="173"/>
                  <a:pt x="159" y="317"/>
                </a:cubicBezTo>
                <a:cubicBezTo>
                  <a:pt x="30" y="461"/>
                  <a:pt x="91" y="824"/>
                  <a:pt x="68" y="1043"/>
                </a:cubicBezTo>
                <a:cubicBezTo>
                  <a:pt x="45" y="1262"/>
                  <a:pt x="0" y="1481"/>
                  <a:pt x="23" y="16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9440" y="3673440"/>
            <a:ext cx="36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9440" y="453708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44370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479736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40766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27640" y="364500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573408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54450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508464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46530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54450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1989000"/>
            <a:ext cx="336600" cy="3603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1989000"/>
            <a:ext cx="36036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198900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60720" y="4035600"/>
            <a:ext cx="36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9800" y="723960"/>
            <a:ext cx="36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20192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2163600"/>
            <a:ext cx="1018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371600"/>
            <a:ext cx="1018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32884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94000" y="2898720"/>
            <a:ext cx="997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95440" y="279396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6520" y="2381400"/>
            <a:ext cx="10152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7440" y="15876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41320" y="181296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43040" y="9334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3080" y="20192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48040" y="113976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3080" y="11556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46360" y="72720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92320" y="129708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9800" y="150192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8760" y="227664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334800"/>
            <a:ext cx="3311640" cy="2953080"/>
          </a:xfrm>
          <a:custGeom>
            <a:avLst/>
            <a:gdLst/>
            <a:ahLst/>
            <a:rect l="l" t="t" r="r" b="b"/>
            <a:pathLst>
              <a:path w="2994" h="2592">
                <a:moveTo>
                  <a:pt x="23" y="1632"/>
                </a:moveTo>
                <a:cubicBezTo>
                  <a:pt x="46" y="1783"/>
                  <a:pt x="76" y="1806"/>
                  <a:pt x="204" y="1950"/>
                </a:cubicBezTo>
                <a:cubicBezTo>
                  <a:pt x="332" y="2094"/>
                  <a:pt x="567" y="2396"/>
                  <a:pt x="794" y="2494"/>
                </a:cubicBezTo>
                <a:cubicBezTo>
                  <a:pt x="1021" y="2592"/>
                  <a:pt x="1278" y="2584"/>
                  <a:pt x="1565" y="2539"/>
                </a:cubicBezTo>
                <a:cubicBezTo>
                  <a:pt x="1852" y="2494"/>
                  <a:pt x="2290" y="2335"/>
                  <a:pt x="2517" y="2222"/>
                </a:cubicBezTo>
                <a:cubicBezTo>
                  <a:pt x="2744" y="2109"/>
                  <a:pt x="2858" y="2010"/>
                  <a:pt x="2926" y="1859"/>
                </a:cubicBezTo>
                <a:cubicBezTo>
                  <a:pt x="2994" y="1708"/>
                  <a:pt x="2941" y="1481"/>
                  <a:pt x="2926" y="1315"/>
                </a:cubicBezTo>
                <a:cubicBezTo>
                  <a:pt x="2911" y="1149"/>
                  <a:pt x="2933" y="1005"/>
                  <a:pt x="2835" y="861"/>
                </a:cubicBezTo>
                <a:cubicBezTo>
                  <a:pt x="2737" y="717"/>
                  <a:pt x="2480" y="589"/>
                  <a:pt x="2336" y="453"/>
                </a:cubicBezTo>
                <a:cubicBezTo>
                  <a:pt x="2192" y="317"/>
                  <a:pt x="2222" y="90"/>
                  <a:pt x="1973" y="45"/>
                </a:cubicBezTo>
                <a:cubicBezTo>
                  <a:pt x="1724" y="0"/>
                  <a:pt x="1141" y="136"/>
                  <a:pt x="839" y="181"/>
                </a:cubicBezTo>
                <a:cubicBezTo>
                  <a:pt x="537" y="226"/>
                  <a:pt x="288" y="173"/>
                  <a:pt x="159" y="317"/>
                </a:cubicBezTo>
                <a:cubicBezTo>
                  <a:pt x="30" y="461"/>
                  <a:pt x="91" y="824"/>
                  <a:pt x="68" y="1043"/>
                </a:cubicBezTo>
                <a:cubicBezTo>
                  <a:pt x="45" y="1262"/>
                  <a:pt x="0" y="1481"/>
                  <a:pt x="23" y="16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9440" y="230832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4720" y="1731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9440" y="1515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723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7080" y="158760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33360"/>
            <a:ext cx="3527280" cy="30258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7080" y="723960"/>
            <a:ext cx="36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0192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3800" y="216360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137160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83080" y="2328840"/>
            <a:ext cx="1018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86360" y="289872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279396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2381400"/>
            <a:ext cx="1018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50160" y="15876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34040" y="181296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35760" y="9334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5440" y="20192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40760" y="113976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115560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39080" y="72720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4680" y="129708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2160" y="150192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91480" y="227664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61080" y="334800"/>
            <a:ext cx="3311280" cy="2953080"/>
          </a:xfrm>
          <a:custGeom>
            <a:avLst/>
            <a:gdLst/>
            <a:ahLst/>
            <a:rect l="l" t="t" r="r" b="b"/>
            <a:pathLst>
              <a:path w="2994" h="2592">
                <a:moveTo>
                  <a:pt x="23" y="1632"/>
                </a:moveTo>
                <a:cubicBezTo>
                  <a:pt x="46" y="1783"/>
                  <a:pt x="76" y="1806"/>
                  <a:pt x="204" y="1950"/>
                </a:cubicBezTo>
                <a:cubicBezTo>
                  <a:pt x="332" y="2094"/>
                  <a:pt x="567" y="2396"/>
                  <a:pt x="794" y="2494"/>
                </a:cubicBezTo>
                <a:cubicBezTo>
                  <a:pt x="1021" y="2592"/>
                  <a:pt x="1278" y="2584"/>
                  <a:pt x="1565" y="2539"/>
                </a:cubicBezTo>
                <a:cubicBezTo>
                  <a:pt x="1852" y="2494"/>
                  <a:pt x="2290" y="2335"/>
                  <a:pt x="2517" y="2222"/>
                </a:cubicBezTo>
                <a:cubicBezTo>
                  <a:pt x="2744" y="2109"/>
                  <a:pt x="2858" y="2010"/>
                  <a:pt x="2926" y="1859"/>
                </a:cubicBezTo>
                <a:cubicBezTo>
                  <a:pt x="2994" y="1708"/>
                  <a:pt x="2941" y="1481"/>
                  <a:pt x="2926" y="1315"/>
                </a:cubicBezTo>
                <a:cubicBezTo>
                  <a:pt x="2911" y="1149"/>
                  <a:pt x="2933" y="1005"/>
                  <a:pt x="2835" y="861"/>
                </a:cubicBezTo>
                <a:cubicBezTo>
                  <a:pt x="2737" y="717"/>
                  <a:pt x="2480" y="589"/>
                  <a:pt x="2336" y="453"/>
                </a:cubicBezTo>
                <a:cubicBezTo>
                  <a:pt x="2192" y="317"/>
                  <a:pt x="2222" y="90"/>
                  <a:pt x="1973" y="45"/>
                </a:cubicBezTo>
                <a:cubicBezTo>
                  <a:pt x="1724" y="0"/>
                  <a:pt x="1141" y="136"/>
                  <a:pt x="839" y="181"/>
                </a:cubicBezTo>
                <a:cubicBezTo>
                  <a:pt x="537" y="226"/>
                  <a:pt x="288" y="173"/>
                  <a:pt x="159" y="317"/>
                </a:cubicBezTo>
                <a:cubicBezTo>
                  <a:pt x="30" y="461"/>
                  <a:pt x="91" y="824"/>
                  <a:pt x="68" y="1043"/>
                </a:cubicBezTo>
                <a:cubicBezTo>
                  <a:pt x="45" y="1262"/>
                  <a:pt x="0" y="1481"/>
                  <a:pt x="23" y="16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158760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260280"/>
            <a:ext cx="3527640" cy="30258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2160" y="230832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7440" y="1731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2160" y="1515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00720" y="72396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3646440"/>
            <a:ext cx="3311640" cy="2952720"/>
          </a:xfrm>
          <a:custGeom>
            <a:avLst/>
            <a:gdLst/>
            <a:ahLst/>
            <a:rect l="l" t="t" r="r" b="b"/>
            <a:pathLst>
              <a:path w="2994" h="2592">
                <a:moveTo>
                  <a:pt x="23" y="1632"/>
                </a:moveTo>
                <a:cubicBezTo>
                  <a:pt x="46" y="1783"/>
                  <a:pt x="76" y="1806"/>
                  <a:pt x="204" y="1950"/>
                </a:cubicBezTo>
                <a:cubicBezTo>
                  <a:pt x="332" y="2094"/>
                  <a:pt x="567" y="2396"/>
                  <a:pt x="794" y="2494"/>
                </a:cubicBezTo>
                <a:cubicBezTo>
                  <a:pt x="1021" y="2592"/>
                  <a:pt x="1278" y="2584"/>
                  <a:pt x="1565" y="2539"/>
                </a:cubicBezTo>
                <a:cubicBezTo>
                  <a:pt x="1852" y="2494"/>
                  <a:pt x="2290" y="2335"/>
                  <a:pt x="2517" y="2222"/>
                </a:cubicBezTo>
                <a:cubicBezTo>
                  <a:pt x="2744" y="2109"/>
                  <a:pt x="2858" y="2010"/>
                  <a:pt x="2926" y="1859"/>
                </a:cubicBezTo>
                <a:cubicBezTo>
                  <a:pt x="2994" y="1708"/>
                  <a:pt x="2941" y="1481"/>
                  <a:pt x="2926" y="1315"/>
                </a:cubicBezTo>
                <a:cubicBezTo>
                  <a:pt x="2911" y="1149"/>
                  <a:pt x="2933" y="1005"/>
                  <a:pt x="2835" y="861"/>
                </a:cubicBezTo>
                <a:cubicBezTo>
                  <a:pt x="2737" y="717"/>
                  <a:pt x="2480" y="589"/>
                  <a:pt x="2336" y="453"/>
                </a:cubicBezTo>
                <a:cubicBezTo>
                  <a:pt x="2192" y="317"/>
                  <a:pt x="2222" y="90"/>
                  <a:pt x="1973" y="45"/>
                </a:cubicBezTo>
                <a:cubicBezTo>
                  <a:pt x="1724" y="0"/>
                  <a:pt x="1141" y="136"/>
                  <a:pt x="839" y="181"/>
                </a:cubicBezTo>
                <a:cubicBezTo>
                  <a:pt x="537" y="226"/>
                  <a:pt x="288" y="173"/>
                  <a:pt x="159" y="317"/>
                </a:cubicBezTo>
                <a:cubicBezTo>
                  <a:pt x="30" y="461"/>
                  <a:pt x="91" y="824"/>
                  <a:pt x="68" y="1043"/>
                </a:cubicBezTo>
                <a:cubicBezTo>
                  <a:pt x="45" y="1262"/>
                  <a:pt x="0" y="1481"/>
                  <a:pt x="23" y="16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561960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504360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482760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4035600"/>
            <a:ext cx="360360" cy="36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3645000"/>
            <a:ext cx="3527280" cy="30258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533088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547524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683240"/>
            <a:ext cx="10152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94000" y="56404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97280" y="621036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99080" y="610560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9800" y="5692680"/>
            <a:ext cx="1015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61080" y="4898880"/>
            <a:ext cx="997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4960" y="5124600"/>
            <a:ext cx="9972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46680" y="424512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5330880"/>
            <a:ext cx="100080" cy="10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1320" y="44514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446724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0000" y="4038480"/>
            <a:ext cx="10152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5600" y="4608360"/>
            <a:ext cx="10008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3080" y="481320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02400" y="5587920"/>
            <a:ext cx="10008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4898880"/>
            <a:ext cx="99720" cy="103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1:38:01Z</dcterms:created>
  <dc:creator>helen</dc:creator>
  <dc:description/>
  <dc:language>en-US</dc:language>
  <cp:lastModifiedBy>Helen Peters</cp:lastModifiedBy>
  <dcterms:modified xsi:type="dcterms:W3CDTF">2005-11-24T12:53:16Z</dcterms:modified>
  <cp:revision>3</cp:revision>
  <dc:subject/>
  <dc:title>Slide 1</dc:title>
</cp:coreProperties>
</file>